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7F6-0B6D-4201-9CB2-620502CB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0C3-1F65-486F-9243-857A5352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C02-4B46-418F-A9E6-2DC1D66E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51A-42CC-4C7A-A249-2566C346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DD80-1F5B-4830-A95F-2D11B37E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065-F3E8-48E8-99BE-1AE2ADE7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840-DBEC-431C-93B3-7483FF7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857-D52C-4AD7-B4EE-D9E9B54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2E8A-D04E-40E8-AB21-5667F5D8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C3D-109D-4EF7-8DE1-09C4712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D894-29CA-4873-B2D6-F73AAB5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8DC-EE21-44C9-BAB0-37DE771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D0F-5045-49FA-89DE-9D5C34B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A9E2-4BE6-40E2-9DB5-5850F21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921D-1121-4599-AF4E-3BE396D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D7F-8653-40F0-9B8D-22258640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BFA-8330-4EFA-B13A-3A5EC4C6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21BBF-72B3-471E-86BD-8F299CBF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D544-46BD-4436-A871-16DEB99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FDA7B-CD8E-4931-A7D0-6D317771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FEAF6-4E5B-43C9-88FD-B9199D8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34544-DC7F-4CD0-8B44-B05AD07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3ED-9869-4011-95F0-1C12E61F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5A4F9-7B6D-44B3-9AFF-D342E74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21D67-880B-4808-A5FD-BD322FB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5435C-6413-4840-860E-52B810A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854EE-4C89-4663-9241-1F998313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05203-02AB-4FAA-BD36-71AB746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0B7B1-409C-4C3B-A9F3-46D2D432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396E3-65FF-4382-97AB-A5E8F2F7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15B0-2B30-43A8-AAE1-E1102B42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0CC2-BC24-4589-8190-D276ADC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6334-FF8B-4E91-B8B5-62F4790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B0D-C26B-4C46-84C3-618BF6C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4DC2-6FD6-4D55-938B-8C45C7D0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ACBE-03CD-41D3-A25A-8F4DB7B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645C-50E7-40FA-9AE9-8B07587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D3A2-2167-4206-8285-A357D0E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AADF-744D-4A03-9438-B287691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3111-8A99-4DB4-98A5-F8C722D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C64A-92E3-4A80-A3CE-32AF8276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654E-8285-45E3-81EB-3129097C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B546-BF08-45FF-B0D2-A7BAC94F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7BDB6-C171-45A7-ADB6-35DA2D93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A54-2A06-4632-B5A9-66664B2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3BA0A-91B1-40B0-9DEB-C0AB42AD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53BA8-E182-4830-AB7A-00525CF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0BE50-1027-409D-9641-1F48B50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7F6B8-8BAE-4F96-9D8F-5F71A4C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17913-7A88-4787-A94E-00E02D2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769FC-6609-41F4-8DE7-03F106A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38118-02E0-4F17-AAEA-B67C0AE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AC475-324C-48C8-81DD-DF5FE19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1E46E-ED98-4304-B4ED-905A61CB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B1529-C79B-45B5-9288-F28E1008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556-D62E-43D2-BF8D-C61152E9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BEC0D-3DDE-4518-A97C-678A29F2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422B2-9403-4F10-941F-6F064C4F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4DEFC-E905-4A7A-88F2-527D6778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B9AE5-118B-4441-8659-D8AE7E39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3C90F-0E76-4A7A-8B46-93DA5A1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04AAF-4F36-4535-BF48-7E6EC6A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3F9AF-1D17-4CF4-9480-6835D27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E0E75-8878-4C7F-AE45-1773BA1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1EB9D-87D4-4AB1-B57B-55BEB31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C65A3-0FA2-4161-934B-C093A63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F28-921C-4140-9ECD-51CC1AF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95521-F9A8-4031-9EEC-E74690B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2FCE1-1B8E-4F73-8DCD-92551D06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007D1-4C96-491D-8781-F6C9E934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3C494-B917-4C5C-B831-96A6583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9763B-4BDC-406D-9BE0-04AFED4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E9CF2-EBFD-4C85-9418-26613671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D13F3-A104-4A93-A850-452827A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46276-AC91-47B5-92DC-D61D847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CBCF1-2BE0-4D68-A2CB-8D7F061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6B9F2-E596-486D-9324-29D3894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BEC-6E85-43B5-8553-3429C10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CA01C-BB56-41EE-9E11-A94DB32F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06D92-AECD-40E3-81BA-10FDDD3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480D6-8991-476F-A46B-91EC091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C04E3-0944-4772-9BC2-4B065418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CD468-6B1B-4A5D-A7E2-0EDAE30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07A-88CC-4153-A17E-029E5B43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D87-ED14-49A4-801E-9442989D8237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BCEA-D7A7-4FC9-81AA-5650AE9BA013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2E07-CD76-483C-B627-9E27C10ED607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EA8-5BE8-4A4A-AF62-AE4B1E479093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E2E-7BF4-4B0D-9330-765B1E633AB8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E20-66B7-4D12-B83B-DB57CED4AA0F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4C6-B4F9-4F4F-AE16-6D11E49DB27C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VOLUM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5640" y="2928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glasses A, B, C and D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NTUuser\Desktop\2008_08_17\volume 5.jpg"/>
          <p:cNvPicPr/>
          <p:nvPr/>
        </p:nvPicPr>
        <p:blipFill>
          <a:blip r:embed="rId1"/>
          <a:stretch/>
        </p:blipFill>
        <p:spPr>
          <a:xfrm>
            <a:off x="2786040" y="1643040"/>
            <a:ext cx="2786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A contains ____ more glasses of water than Jug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B contains ____ fewer glasses of water than Jug C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NTUuser\Desktop\2008_08_17\volume 6.jpg"/>
          <p:cNvPicPr/>
          <p:nvPr/>
        </p:nvPicPr>
        <p:blipFill>
          <a:blip r:embed="rId1"/>
          <a:stretch/>
        </p:blipFill>
        <p:spPr>
          <a:xfrm>
            <a:off x="2571840" y="1285920"/>
            <a:ext cx="32860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mug contains ____ fewer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mug and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NTUuser\Desktop\2008_08_17\volume 4.jpg"/>
          <p:cNvPicPr/>
          <p:nvPr/>
        </p:nvPicPr>
        <p:blipFill>
          <a:blip r:embed="rId1"/>
          <a:stretch/>
        </p:blipFill>
        <p:spPr>
          <a:xfrm>
            <a:off x="2286000" y="1143000"/>
            <a:ext cx="407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ictures are from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Textboo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Workbook Part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amount of water is called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the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 Containers A, B and C have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ame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 if they contain the same amount 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NTUuser\Desktop\2008_08_17\volume 2.jpg"/>
          <p:cNvPicPr/>
          <p:nvPr/>
        </p:nvPicPr>
        <p:blipFill>
          <a:blip r:embed="rId3"/>
          <a:stretch/>
        </p:blipFill>
        <p:spPr>
          <a:xfrm>
            <a:off x="5214960" y="2071800"/>
            <a:ext cx="7063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A contains less water tha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B contains more water tha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00680" y="2071800"/>
            <a:ext cx="1214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F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4286160" y="2000160"/>
            <a:ext cx="70668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2714760" y="1500120"/>
            <a:ext cx="1214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Kettles A and B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A contains 2 more glasses of water than Kettle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B contains 2 fewer glasses of water than Kettle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NTUuser\Desktop\2008_08_17\volume 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13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So far, we have been comparing the volumes of 2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Now, let’s look at how we compare the volumes of 3 or more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5:00:59Z</dcterms:created>
  <dc:creator>NTUuser</dc:creator>
  <dc:description/>
  <dc:language>en-US</dc:language>
  <cp:lastModifiedBy>NTUuser</cp:lastModifiedBy>
  <dcterms:modified xsi:type="dcterms:W3CDTF">2009-01-03T12:53:48Z</dcterms:modified>
  <cp:revision>16</cp:revision>
  <dc:subject/>
  <dc:title>Volume</dc:title>
</cp:coreProperties>
</file>